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F09A-9A22-4155-A932-1A56B314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9BC0-E3E5-4E85-B84A-AA654EB4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43024-7561-4BA3-8F13-0AF1C1DF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9B44B-CC52-45B1-842F-FC45D76A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5F71-D3A9-49A4-B3FF-575E8F97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956A-0844-4D81-B89D-1E9EC8AE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F40C-5E71-4F48-B07E-9ECF4271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6D72-2EF2-4851-A8A2-5E86DE9F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F04C-6E84-4601-AA2F-E76C1DFA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D478-46A2-4FA2-9921-B3FA984B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030F-3164-487F-9DE2-9B0DA25D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BA8A5-E17C-4412-B347-13860419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334C-291E-44E7-99EC-2DAC7F47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4551-268D-4898-9E92-17E114F6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0897-DC46-43F7-896B-5734D882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23AF-21F3-4C77-AF02-28470704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68BE-D2A5-433F-BB9C-3E61CF88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317F6-C916-47A2-89CB-69AA44BE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7DC8-957A-404F-B2D5-FB2191C3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049C8-E688-4DEB-B014-3D51394F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AF4B0-8B97-4A2C-A212-04457929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E1AD-4246-4B00-96E7-82DF54BB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14B1-B893-4845-A63E-9E19A6D8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C8BE-6D3B-4FB2-B659-E6B06197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18D5-32AE-42B9-853F-4AD19FDF9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F510-5723-4B4A-ABE1-DB2B58E8ED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0920" y="1833120"/>
            <a:ext cx="694080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BIZ UD明朝 Medium"/>
                <a:ea typeface="BIZ UD明朝 Medium"/>
              </a:rPr>
              <a:t>新板橋区スマートシティ推進方針策定</a:t>
            </a:r>
            <a:br>
              <a:rPr sz="2800"/>
            </a:br>
            <a:r>
              <a:rPr b="1" lang="zh-TW" sz="2800" spc="-1" strike="noStrike">
                <a:solidFill>
                  <a:srgbClr val="ffffff"/>
                </a:solidFill>
                <a:latin typeface="BIZ UD明朝 Medium"/>
                <a:ea typeface="BIZ UD明朝 Medium"/>
              </a:rPr>
              <a:t>支援業務委託</a:t>
            </a:r>
            <a:r>
              <a:rPr b="1" lang="ja-JP" sz="2800" spc="-1" strike="noStrike">
                <a:solidFill>
                  <a:srgbClr val="ffffff"/>
                </a:solidFill>
                <a:latin typeface="BIZ UD明朝 Medium"/>
                <a:ea typeface="BIZ UD明朝 Medium"/>
              </a:rPr>
              <a:t>企画提案書</a:t>
            </a:r>
            <a:br>
              <a:rPr sz="3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BIZ UD明朝 Medium"/>
                <a:ea typeface="BIZ UD明朝 Medium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IZ UD明朝 Medium"/>
                <a:ea typeface="BIZ UD明朝 Medium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BIZ UD明朝 Medium"/>
                <a:ea typeface="BIZ UD明朝 Medium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BIZ UD明朝 Medium"/>
                <a:ea typeface="BIZ UD明朝 Medium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IZ UD明朝 Medium"/>
                <a:ea typeface="BIZ UD明朝 Medium"/>
              </a:rPr>
              <a:t>・提案書（副本）に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様式２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372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03E7-5B79-4901-BFE3-125436567850}" type="slidenum"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6-09T06:57:47Z</dcterms:created>
  <dc:creator/>
  <dc:description/>
  <dc:language>en-US</dc:language>
  <cp:lastModifiedBy/>
  <dcterms:modified xsi:type="dcterms:W3CDTF">2025-06-09T06:57:52Z</dcterms:modified>
  <cp:revision>1</cp:revision>
  <dc:subject/>
  <dc:title/>
</cp:coreProperties>
</file>